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B63-E5C7-4A89-8FC8-444D442B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B38-0F40-4C32-85D8-B2FAFF1C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805B-E33E-4D2E-821B-BCCE369C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66CD-D49B-405F-92E4-0043B7E5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96E3-D43C-463F-807F-6811D679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DB30-ADC3-4B8B-B45D-D9CB5B4F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264-614A-43AD-9976-C34FFB6B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1DB-D4B7-4079-91EE-895E2D01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BBC6-0E7F-4878-85DF-05DE7F97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697-9102-438A-B8A0-7BFAADBB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7F91-7E66-4446-A9D9-A57774CD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539-2D3A-4C9B-8D86-EA71D8F5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9866A-4B75-41C4-B158-E3A0CA51DD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C654A-2506-4B3A-884A-FAF0D7442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What are the four types of fronts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enario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enario Detail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temperature in Memphis is 40 degrees. There is currently a cold air mass over Memphis.  However, nearby weather stations have recorded a warm air mass moving toward Memphis from the southwest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enario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enario Detail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e temperature in Memphis is 80 degrees. Nearby weather stations have recorded a warm air mass moving toward Memphis from the southwest and a cold air mass moving toward Memphis from the northeast.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enario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enario Detail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e temperature in Memphis is 12 degrees. There is currently a warm air mass over Memphis.  However, nearby weather stations have recorded a cold air mass moving toward Memphis from the west.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enario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enario Detail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e temperature in Memphis is 65 degrees. There is currently a warm front over Memphis.  However, nearby weather stations have recorded a cold front moving toward Memphis from the west.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4.9 Independent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10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0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eam Challenge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0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Background Information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0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Round 1 of Job Interview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0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Independent Practice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0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am Challe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Your team is applying for a job with the Bobcat News Agency as their new meteorologists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The meteorologists job is very prestigious.  In order to get the job you will compete in 3 rounds of interviews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The team with the best overall performance will receive a special reward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4.9 Front Effects Background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5840" y="0"/>
          <a:ext cx="9128160" cy="6643800"/>
        </p:xfrm>
        <a:graphic>
          <a:graphicData uri="http://schemas.openxmlformats.org/drawingml/2006/table">
            <a:tbl>
              <a:tblPr/>
              <a:tblGrid>
                <a:gridCol w="2938320"/>
                <a:gridCol w="61898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Fro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ffect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d Fro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ler temperatur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nderstorm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vy rain or snow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m Fro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mer temperatur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izzly rain then clear ski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onary Fro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mer temperatur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izzly rain then clear ski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cluded Fro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ler temperatur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ts of precipita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und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day each of your team captains will receive an envelope containing a scenario involving fronts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r team must use this information to identify the front involved, use that information to predict the weather, and present your findings to the clas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enario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enario Detail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temperature in Memphis is 70 degrees. There is currently a warm air mass over Memphis.  However, nearby weather stations have recorded a cold air mass moving toward Memphis from the west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02:51:42Z</dcterms:created>
  <dc:creator>Caroline Roth</dc:creator>
  <dc:description/>
  <dc:language>en-US</dc:language>
  <cp:lastModifiedBy>Caroline Roth</cp:lastModifiedBy>
  <dcterms:modified xsi:type="dcterms:W3CDTF">2010-11-28T03:04:46Z</dcterms:modified>
  <cp:revision>4</cp:revision>
  <dc:subject/>
  <dc:title>Bellringer</dc:title>
</cp:coreProperties>
</file>